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600450" cy="5327650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3640" y="365040"/>
            <a:ext cx="123516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6AE0-D850-4E56-9C52-A19DEAB44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FEDE-D368-48C6-A1DF-80DC661F8E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54000" y="365040"/>
            <a:ext cx="1235160" cy="182736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33A-4782-4E2A-B219-9EAB4AC6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44520"/>
            <a:ext cx="324180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920" y="3081600"/>
            <a:ext cx="324180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EDD-34C4-4D83-B46B-D84F1692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920" y="124452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0320" y="124452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920" y="308160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0320" y="308160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94C-4DFA-4087-82EC-D5682028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244520"/>
            <a:ext cx="10436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75120" y="1244520"/>
            <a:ext cx="10436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71320" y="1244520"/>
            <a:ext cx="10436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920" y="3081600"/>
            <a:ext cx="10436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75120" y="3081600"/>
            <a:ext cx="10436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71320" y="3081600"/>
            <a:ext cx="10436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A99-BFC8-4ACA-997C-D837A71E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920" y="1244520"/>
            <a:ext cx="3241800" cy="35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F2E-714C-454C-9282-21D73BB1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920" y="1244520"/>
            <a:ext cx="3241800" cy="3516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A2F-70D9-4AE0-8FBD-D3A008B8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920" y="1244520"/>
            <a:ext cx="1581840" cy="3516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0320" y="1244520"/>
            <a:ext cx="1581840" cy="3516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568-0AE9-4923-A703-F7669167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A87-61B2-4234-9F87-2A600257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8920" y="213840"/>
            <a:ext cx="3241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9D6-5DA1-4582-BF86-4104F045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920" y="124452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0320" y="1244520"/>
            <a:ext cx="1581840" cy="3516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920" y="308160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1EA-7F17-4590-8E59-82D2F659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44520"/>
            <a:ext cx="1581840" cy="3516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0320" y="124452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0320" y="308160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43C-0C90-4F35-9C6F-C52E5496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4452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0320" y="1244520"/>
            <a:ext cx="158184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081600"/>
            <a:ext cx="3241800" cy="167724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A8A-A328-4291-B58C-092CD400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3241800" cy="88740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244520"/>
            <a:ext cx="3241800" cy="35164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rmAutofit/>
          </a:bodyPr>
          <a:p>
            <a:pPr marL="192240" indent="-192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60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36480" indent="-1267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892080" indent="-1270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149480" indent="-1303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149480" indent="-1303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149480" indent="-1303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8920" y="4854240"/>
            <a:ext cx="839880" cy="3682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30480" y="4854240"/>
            <a:ext cx="1139760" cy="3682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80840" y="4854240"/>
            <a:ext cx="839880" cy="368280"/>
          </a:xfrm>
          <a:prstGeom prst="rect">
            <a:avLst/>
          </a:prstGeom>
          <a:noFill/>
          <a:ln w="0">
            <a:noFill/>
          </a:ln>
        </p:spPr>
        <p:txBody>
          <a:bodyPr lIns="51120" rIns="51120" tIns="25560" bIns="25560" anchor="t">
            <a:noAutofit/>
          </a:bodyPr>
          <a:lstStyle>
            <a:lvl1pPr indent="0" algn="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fld id="{7935CBA1-5B7F-4381-AC45-B4B4C235063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1616400" y="109440"/>
            <a:ext cx="88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明朝"/>
                <a:ea typeface="ＭＳ Ｐ明朝"/>
              </a:rPr>
              <a:t>郵   便   は   が   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14"/>
          <p:cNvSpPr/>
          <p:nvPr/>
        </p:nvSpPr>
        <p:spPr>
          <a:xfrm>
            <a:off x="231840" y="4933800"/>
            <a:ext cx="436320" cy="24624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線コネクタ 25"/>
          <p:cNvSpPr/>
          <p:nvPr/>
        </p:nvSpPr>
        <p:spPr>
          <a:xfrm>
            <a:off x="374760" y="4933800"/>
            <a:ext cx="0" cy="252720"/>
          </a:xfrm>
          <a:prstGeom prst="line">
            <a:avLst/>
          </a:prstGeom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線コネクタ 27"/>
          <p:cNvSpPr/>
          <p:nvPr/>
        </p:nvSpPr>
        <p:spPr>
          <a:xfrm>
            <a:off x="534960" y="4927680"/>
            <a:ext cx="0" cy="250920"/>
          </a:xfrm>
          <a:prstGeom prst="line">
            <a:avLst/>
          </a:prstGeom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正方形/長方形 28"/>
          <p:cNvSpPr/>
          <p:nvPr/>
        </p:nvSpPr>
        <p:spPr>
          <a:xfrm>
            <a:off x="700200" y="4933800"/>
            <a:ext cx="576000" cy="23364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線コネクタ 29"/>
          <p:cNvSpPr/>
          <p:nvPr/>
        </p:nvSpPr>
        <p:spPr>
          <a:xfrm>
            <a:off x="849240" y="4927680"/>
            <a:ext cx="0" cy="233280"/>
          </a:xfrm>
          <a:prstGeom prst="line">
            <a:avLst/>
          </a:prstGeom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線コネクタ 30"/>
          <p:cNvSpPr/>
          <p:nvPr/>
        </p:nvSpPr>
        <p:spPr>
          <a:xfrm>
            <a:off x="990720" y="4927680"/>
            <a:ext cx="0" cy="233280"/>
          </a:xfrm>
          <a:prstGeom prst="line">
            <a:avLst/>
          </a:prstGeom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線コネクタ 31"/>
          <p:cNvSpPr/>
          <p:nvPr/>
        </p:nvSpPr>
        <p:spPr>
          <a:xfrm>
            <a:off x="1139760" y="4935600"/>
            <a:ext cx="0" cy="233280"/>
          </a:xfrm>
          <a:prstGeom prst="line">
            <a:avLst/>
          </a:prstGeom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4"/>
          <p:cNvSpPr/>
          <p:nvPr/>
        </p:nvSpPr>
        <p:spPr>
          <a:xfrm>
            <a:off x="1589040" y="430200"/>
            <a:ext cx="216000" cy="3240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6"/>
          <p:cNvSpPr/>
          <p:nvPr/>
        </p:nvSpPr>
        <p:spPr>
          <a:xfrm>
            <a:off x="1844640" y="430200"/>
            <a:ext cx="216000" cy="3240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7"/>
          <p:cNvSpPr/>
          <p:nvPr/>
        </p:nvSpPr>
        <p:spPr>
          <a:xfrm>
            <a:off x="2098800" y="430200"/>
            <a:ext cx="215640" cy="3240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9"/>
          <p:cNvSpPr/>
          <p:nvPr/>
        </p:nvSpPr>
        <p:spPr>
          <a:xfrm>
            <a:off x="2347920" y="430200"/>
            <a:ext cx="216000" cy="30636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10"/>
          <p:cNvSpPr/>
          <p:nvPr/>
        </p:nvSpPr>
        <p:spPr>
          <a:xfrm>
            <a:off x="2597040" y="430200"/>
            <a:ext cx="216000" cy="30636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正方形/長方形 11"/>
          <p:cNvSpPr/>
          <p:nvPr/>
        </p:nvSpPr>
        <p:spPr>
          <a:xfrm>
            <a:off x="2844720" y="430200"/>
            <a:ext cx="216000" cy="30636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正方形/長方形 12"/>
          <p:cNvSpPr/>
          <p:nvPr/>
        </p:nvSpPr>
        <p:spPr>
          <a:xfrm>
            <a:off x="3094200" y="430200"/>
            <a:ext cx="217440" cy="30636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線コネクタ 32"/>
          <p:cNvSpPr/>
          <p:nvPr/>
        </p:nvSpPr>
        <p:spPr>
          <a:xfrm>
            <a:off x="2319480" y="593640"/>
            <a:ext cx="17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正方形/長方形 12"/>
          <p:cNvSpPr/>
          <p:nvPr/>
        </p:nvSpPr>
        <p:spPr>
          <a:xfrm>
            <a:off x="365040" y="299880"/>
            <a:ext cx="576360" cy="720720"/>
          </a:xfrm>
          <a:prstGeom prst="rect">
            <a:avLst/>
          </a:prstGeom>
          <a:noFill/>
          <a:ln w="12600">
            <a:solidFill>
              <a:srgbClr val="d9d9d9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G0321</dc:creator>
  <dc:description/>
  <dc:language>en-US</dc:language>
  <cp:lastModifiedBy>sansyu-Dell</cp:lastModifiedBy>
  <dcterms:modified xsi:type="dcterms:W3CDTF">2018-01-20T01:32:34Z</dcterms:modified>
  <cp:revision>15</cp:revision>
  <dc:subject/>
  <dc:title>スライド 1</dc:title>
</cp:coreProperties>
</file>